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73B-BC9B-4219-844F-2ECEC6AA441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A834-1A0B-4A63-818F-4319642E7B1A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1587-81A8-480C-B352-0109C9AE7F92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A567-3372-4884-B61A-75F61BBFC209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EE5B-249F-4268-B309-3DA5EDF3DAC3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9D4-7797-42A6-BF66-ABAC702F6FB7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652-33C6-4724-AC18-44AB0CEC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EA5-1462-4DEA-A33F-451B5A1D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64F-8BD9-4F94-946E-43173B08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90C-FB2C-4BE6-80BA-3F1767AC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7B2-2160-43F5-8792-7005EC31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AAF-5489-43B2-9C79-910BDBD2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352-DBFD-4D2F-82E4-6A49AF3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920-A5FE-4915-8C1E-CF109DC8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66A-676C-4DEF-9FD2-D7589A16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AE6-F7D8-4CE4-9C62-68F95D68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1B8-2FAA-414D-B173-8B4007A1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F2D-A107-446A-BB91-765EA96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42BE-FB38-45AD-80D9-9E5F1D5B19BA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dding and Subtracting Unlike Frac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fferent Denominators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No problem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ewrite the problem with equivalent fraction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st the multiples of both denominator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ind the least common multiple (LCM)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rite new fractions with the LCM as the new denominato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ind the factor you multiply by to get from your original denominator to your new denominato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e that same factor, and multiply it by your original numerator to get a new numerato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DOES THAT MEAN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371600" y="1752480"/>
            <a:ext cx="6324480" cy="10688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808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illustrate the steps with an example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98108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05120" y="4343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1447920" y="4343400"/>
            <a:ext cx="1676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581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724280" y="3429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4724280" y="4419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4267080" y="441972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438280" y="533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362320" y="14479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905120" y="1447920"/>
            <a:ext cx="1676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038480" y="914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81480" y="5335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181480" y="152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724280" y="152388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5181480"/>
            <a:ext cx="42670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s of 4: 4, 8, 12, 16, 2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0" y="5715000"/>
            <a:ext cx="42670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s of 6: 6, 12, 18, 24, 3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2514600" y="5181480"/>
            <a:ext cx="53352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2209680" y="5715000"/>
            <a:ext cx="53352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1981080" y="35812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038480" y="3048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4876920" y="358128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51460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181480" y="35053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77" name="AutoShape 21"/>
          <p:cNvCxnSpPr>
            <a:stCxn id="62" idx="1"/>
            <a:endCxn id="75" idx="1"/>
          </p:cNvCxnSpPr>
          <p:nvPr/>
        </p:nvCxnSpPr>
        <p:spPr>
          <a:xfrm flipH="1" flipV="1" rot="10800000">
            <a:off x="2361240" y="1949760"/>
            <a:ext cx="153000" cy="2057760"/>
          </a:xfrm>
          <a:prstGeom prst="bentConnector3">
            <a:avLst>
              <a:gd name="adj1" fmla="val -15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8" name="Text Box 22"/>
          <p:cNvSpPr/>
          <p:nvPr/>
        </p:nvSpPr>
        <p:spPr>
          <a:xfrm>
            <a:off x="914400" y="2666880"/>
            <a:ext cx="8380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66688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80" name="AutoShape 26"/>
          <p:cNvCxnSpPr/>
          <p:nvPr/>
        </p:nvCxnSpPr>
        <p:spPr>
          <a:xfrm>
            <a:off x="5943600" y="2133360"/>
            <a:ext cx="534240" cy="1981800"/>
          </a:xfrm>
          <a:prstGeom prst="bentConnector3">
            <a:avLst>
              <a:gd name="adj1" fmla="val 254146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1" name="Text Box 27"/>
          <p:cNvSpPr/>
          <p:nvPr/>
        </p:nvSpPr>
        <p:spPr>
          <a:xfrm>
            <a:off x="7620120" y="2895480"/>
            <a:ext cx="7617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5562720" y="5486400"/>
            <a:ext cx="1752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594360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5943600" y="4419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xample 2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1143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685800" y="22096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85800" y="22096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Line 7"/>
          <p:cNvSpPr/>
          <p:nvPr/>
        </p:nvSpPr>
        <p:spPr>
          <a:xfrm>
            <a:off x="2209680" y="2209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048120" y="12193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>
            <a:off x="2743200" y="2209680"/>
            <a:ext cx="1143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2971800" y="2133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019920" y="1295280"/>
            <a:ext cx="25905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, 20, 30, 40, 50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6019920" y="1828800"/>
            <a:ext cx="259056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, 10, 15, 20, 2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Oval 13"/>
          <p:cNvSpPr/>
          <p:nvPr/>
        </p:nvSpPr>
        <p:spPr>
          <a:xfrm>
            <a:off x="6019920" y="1295280"/>
            <a:ext cx="53316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6324480" y="1828800"/>
            <a:ext cx="53352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762120" y="4267080"/>
            <a:ext cx="12189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2286000" y="426708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2895480" y="4267080"/>
            <a:ext cx="1371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914400" y="41148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3124080" y="4114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03" name="AutoShape 20"/>
          <p:cNvCxnSpPr>
            <a:stCxn id="89" idx="1"/>
            <a:endCxn id="101" idx="1"/>
          </p:cNvCxnSpPr>
          <p:nvPr/>
        </p:nvCxnSpPr>
        <p:spPr>
          <a:xfrm flipH="1" flipV="1" rot="10800000">
            <a:off x="684720" y="2712600"/>
            <a:ext cx="229320" cy="1905840"/>
          </a:xfrm>
          <a:prstGeom prst="bentConnector3">
            <a:avLst>
              <a:gd name="adj1" fmla="val -10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4" name="Text Box 21"/>
          <p:cNvSpPr/>
          <p:nvPr/>
        </p:nvSpPr>
        <p:spPr>
          <a:xfrm>
            <a:off x="0" y="320040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 1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1066680" y="3352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106" name="AutoShape 23"/>
          <p:cNvCxnSpPr>
            <a:stCxn id="93" idx="3"/>
            <a:endCxn id="102" idx="3"/>
          </p:cNvCxnSpPr>
          <p:nvPr/>
        </p:nvCxnSpPr>
        <p:spPr>
          <a:xfrm>
            <a:off x="3733920" y="2636640"/>
            <a:ext cx="457920" cy="1981800"/>
          </a:xfrm>
          <a:prstGeom prst="bentConnector3">
            <a:avLst>
              <a:gd name="adj1" fmla="val 21487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7" name="Text Box 24"/>
          <p:cNvSpPr/>
          <p:nvPr/>
        </p:nvSpPr>
        <p:spPr>
          <a:xfrm>
            <a:off x="4648320" y="3200400"/>
            <a:ext cx="761760" cy="58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 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200400" y="33526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5715000" y="36576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Line 27"/>
          <p:cNvSpPr/>
          <p:nvPr/>
        </p:nvSpPr>
        <p:spPr>
          <a:xfrm>
            <a:off x="6705720" y="419112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0" y="41148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010280" y="3124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5562720" y="5410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6781680" y="594360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7162920" y="5029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162920" y="58514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0:15:48Z</dcterms:created>
  <dc:creator>Administrator</dc:creator>
  <dc:description/>
  <dc:language>en-US</dc:language>
  <cp:lastModifiedBy>Home</cp:lastModifiedBy>
  <dcterms:modified xsi:type="dcterms:W3CDTF">2010-11-14T16:36:47Z</dcterms:modified>
  <cp:revision>27</cp:revision>
  <dc:subject/>
  <dc:title>Adding and Subtracting Unlike Fractions</dc:title>
</cp:coreProperties>
</file>